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8.gif" ContentType="image/gif"/>
  <Override PartName="/ppt/media/image27.wmf" ContentType="image/x-wmf"/>
  <Override PartName="/ppt/media/image25.png" ContentType="image/png"/>
  <Override PartName="/ppt/media/image2.gif" ContentType="image/gif"/>
  <Override PartName="/ppt/media/image32.gif" ContentType="image/gif"/>
  <Override PartName="/ppt/media/image23.png" ContentType="image/png"/>
  <Override PartName="/ppt/media/image30.gif" ContentType="image/gif"/>
  <Override PartName="/ppt/media/image2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9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9.gif" ContentType="image/gif"/>
  <Override PartName="/ppt/media/image13.png" ContentType="image/png"/>
  <Override PartName="/ppt/media/image10.gif" ContentType="image/gif"/>
  <Override PartName="/ppt/media/image8.gif" ContentType="image/gif"/>
  <Override PartName="/ppt/media/image37.gif" ContentType="image/gif"/>
  <Override PartName="/ppt/media/image42.png" ContentType="image/png"/>
  <Override PartName="/ppt/media/image38.png" ContentType="image/png"/>
  <Override PartName="/ppt/media/image35.gif" ContentType="image/gif"/>
  <Override PartName="/ppt/media/image11.gif" ContentType="image/gif"/>
  <Override PartName="/ppt/media/image39.png" ContentType="image/png"/>
  <Override PartName="/ppt/media/image36.gif" ContentType="image/gif"/>
  <Override PartName="/ppt/media/image6.gif" ContentType="image/gif"/>
  <Override PartName="/ppt/media/image14.png" ContentType="image/png"/>
  <Override PartName="/ppt/media/image21.gif" ContentType="image/gif"/>
  <Override PartName="/ppt/media/image31.gif" ContentType="image/gif"/>
  <Override PartName="/ppt/media/image24.png" ContentType="image/png"/>
  <Override PartName="/ppt/media/image43.jpeg" ContentType="image/jpeg"/>
  <Override PartName="/ppt/media/image5.png" ContentType="image/png"/>
  <Override PartName="/ppt/media/image34.png" ContentType="image/png"/>
  <Override PartName="/ppt/media/image41.gif" ContentType="image/gif"/>
  <Override PartName="/ppt/media/image4.png" ContentType="image/png"/>
  <Override PartName="/ppt/media/image40.gif" ContentType="image/gif"/>
  <Override PartName="/ppt/media/image33.png" ContentType="image/png"/>
  <Override PartName="/ppt/media/image3.png" ContentType="image/png"/>
  <Override PartName="/ppt/media/image26.png" ContentType="image/png"/>
  <Override PartName="/ppt/media/image1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7393-BD40-4998-9B48-CACAA1D52F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DAC0-2582-4B2D-B2B9-292F1604EC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7585-0609-468E-99D3-03DE27F25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0029-E969-41A4-85E3-FF346187E8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7563-BCEC-4C9C-9A8A-831A7F5ED8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53DA-1DE7-4D6B-9976-ECC767F1CA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6421-84CB-4CCB-96EC-B420828B0A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E95A-4661-4B4F-9AB5-2D5A4BB3D0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49B3-01AC-4A9D-A455-FDA6DD41D8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CD1A-0EB1-4F9A-94E6-54CECD3FB6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826D-D5B7-4673-93E4-3A7F252B6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3F55-9165-4074-A98D-5770704C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2656-8E12-4C47-80F8-909099336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2B9A-F0F6-4609-B63D-00EC4ECE9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4165-E923-4B22-8B9F-0DDF3CCB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494A-B953-40B1-8889-359232B9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5F71-4FDE-4696-AA8D-8E258F15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62A1-1E9A-4A55-9817-036E848B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8BFA-129F-4041-B746-510DC8EA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3ED7-0FD7-49FC-81AD-7E277689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6009-298B-4C74-A52C-B07A4469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525D-249B-4FB1-A14D-4D7EE22D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0009-F523-4203-A5B8-E3BD11F93C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hyperlink" Target="http://office.microsoft.com/en-us/images/results.aspx?ex=2&amp;qu=girl#mt:3" TargetMode="External"/><Relationship Id="rId3" Type="http://schemas.openxmlformats.org/officeDocument/2006/relationships/hyperlink" Target="http://office.microsoft.com/en-us/images/results.aspx?ex=2&amp;qu=girl#mt:3" TargetMode="External"/><Relationship Id="rId4" Type="http://schemas.openxmlformats.org/officeDocument/2006/relationships/hyperlink" Target="http://office.microsoft.com/en-us/images/results.aspx?qu=dog%20bone&amp;ctt=1#mt:1|" TargetMode="External"/><Relationship Id="rId5" Type="http://schemas.openxmlformats.org/officeDocument/2006/relationships/hyperlink" Target="http://office.microsoft.com/en-us/images/results.aspx?qu=dog%20bone&amp;ctt=1#mt:1|" TargetMode="External"/><Relationship Id="rId6" Type="http://schemas.openxmlformats.org/officeDocument/2006/relationships/hyperlink" Target="http://office.microsoft.com/en-us/images/results.aspx?qu=flowers&amp;ctt=1#mt:1|" TargetMode="External"/><Relationship Id="rId7" Type="http://schemas.openxmlformats.org/officeDocument/2006/relationships/hyperlink" Target="http://office.microsoft.com/en-us/images/results.aspx?qu=flowers&amp;ctt=1#mt:1|" TargetMode="External"/><Relationship Id="rId8" Type="http://schemas.openxmlformats.org/officeDocument/2006/relationships/hyperlink" Target="http://office.microsoft.com/en-us/images/results.aspx?qu=flower%20blooming&amp;ctt=1#mt:3|" TargetMode="External"/><Relationship Id="rId9" Type="http://schemas.openxmlformats.org/officeDocument/2006/relationships/hyperlink" Target="http://office.microsoft.com/en-us/images/results.aspx?qu=flower%20blooming&amp;ctt=1#mt:3|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6.gif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gi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gi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5.wmf"/><Relationship Id="rId5" Type="http://schemas.openxmlformats.org/officeDocument/2006/relationships/image" Target="../media/image16.gif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gif"/><Relationship Id="rId5" Type="http://schemas.openxmlformats.org/officeDocument/2006/relationships/image" Target="../media/image29.wmf"/><Relationship Id="rId6" Type="http://schemas.openxmlformats.org/officeDocument/2006/relationships/image" Target="../media/image30.gif"/><Relationship Id="rId7" Type="http://schemas.openxmlformats.org/officeDocument/2006/relationships/image" Target="../media/image31.gif"/><Relationship Id="rId8" Type="http://schemas.openxmlformats.org/officeDocument/2006/relationships/image" Target="../media/image32.gif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gif"/><Relationship Id="rId12" Type="http://schemas.openxmlformats.org/officeDocument/2006/relationships/image" Target="../media/image36.gif"/><Relationship Id="rId13" Type="http://schemas.openxmlformats.org/officeDocument/2006/relationships/image" Target="../media/image37.gif"/><Relationship Id="rId14" Type="http://schemas.openxmlformats.org/officeDocument/2006/relationships/image" Target="../media/image38.png"/><Relationship Id="rId15" Type="http://schemas.openxmlformats.org/officeDocument/2006/relationships/image" Target="../media/image39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1.gif"/><Relationship Id="rId3" Type="http://schemas.openxmlformats.org/officeDocument/2006/relationships/image" Target="../media/image41.gif"/><Relationship Id="rId4" Type="http://schemas.openxmlformats.org/officeDocument/2006/relationships/image" Target="../media/image41.gif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1.gif"/><Relationship Id="rId3" Type="http://schemas.openxmlformats.org/officeDocument/2006/relationships/image" Target="../media/image41.gif"/><Relationship Id="rId4" Type="http://schemas.openxmlformats.org/officeDocument/2006/relationships/image" Target="../media/image41.gif"/><Relationship Id="rId5" Type="http://schemas.openxmlformats.org/officeDocument/2006/relationships/image" Target="../media/image6.gif"/><Relationship Id="rId6" Type="http://schemas.openxmlformats.org/officeDocument/2006/relationships/image" Target="../media/image8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3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777240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C:\Users\gary\AppData\Local\Microsoft\Windows\Temporary Internet Files\Content.IE5\KPRRPU1U\MM900173982[1].gif"/>
          <p:cNvPicPr/>
          <p:nvPr/>
        </p:nvPicPr>
        <p:blipFill>
          <a:blip r:embed="rId2"/>
          <a:stretch/>
        </p:blipFill>
        <p:spPr>
          <a:xfrm>
            <a:off x="5410080" y="685800"/>
            <a:ext cx="1611360" cy="1082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Users\gary\AppData\Local\Microsoft\Windows\Temporary Internet Files\Content.IE5\KPRRPU1U\MM900173982[1].gif"/>
          <p:cNvPicPr/>
          <p:nvPr/>
        </p:nvPicPr>
        <p:blipFill>
          <a:blip r:embed="rId3"/>
          <a:stretch/>
        </p:blipFill>
        <p:spPr>
          <a:xfrm>
            <a:off x="2057400" y="685800"/>
            <a:ext cx="1611360" cy="1082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gary\AppData\Local\Microsoft\Windows\Temporary Internet Files\Content.IE5\KPRRPU1U\MM900173982[1].gif"/>
          <p:cNvPicPr/>
          <p:nvPr/>
        </p:nvPicPr>
        <p:blipFill>
          <a:blip r:embed="rId4"/>
          <a:stretch/>
        </p:blipFill>
        <p:spPr>
          <a:xfrm>
            <a:off x="3886200" y="762120"/>
            <a:ext cx="1611360" cy="1082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Users\gary\AppData\Local\Microsoft\Windows\Temporary Internet Files\Content.IE5\KPRRPU1U\MM900173982[1].gif"/>
          <p:cNvPicPr/>
          <p:nvPr/>
        </p:nvPicPr>
        <p:blipFill>
          <a:blip r:embed="rId5"/>
          <a:stretch/>
        </p:blipFill>
        <p:spPr>
          <a:xfrm>
            <a:off x="5791320" y="457200"/>
            <a:ext cx="1611360" cy="1082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gary\AppData\Local\Microsoft\Windows\Temporary Internet Files\Content.IE5\KPRRPU1U\MM900173982[1].gif"/>
          <p:cNvPicPr/>
          <p:nvPr/>
        </p:nvPicPr>
        <p:blipFill>
          <a:blip r:embed="rId6"/>
          <a:stretch/>
        </p:blipFill>
        <p:spPr>
          <a:xfrm>
            <a:off x="2895480" y="457200"/>
            <a:ext cx="1611360" cy="1082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Users\gary\AppData\Local\Microsoft\Windows\Temporary Internet Files\Content.IE5\KPRRPU1U\MM900173982[1].gif"/>
          <p:cNvPicPr/>
          <p:nvPr/>
        </p:nvPicPr>
        <p:blipFill>
          <a:blip r:embed="rId7"/>
          <a:stretch/>
        </p:blipFill>
        <p:spPr>
          <a:xfrm>
            <a:off x="6858000" y="609480"/>
            <a:ext cx="1611360" cy="1082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Users\gary\AppData\Local\Microsoft\Windows\Temporary Internet Files\Content.IE5\KPRRPU1U\MM900173982[1].gif"/>
          <p:cNvPicPr/>
          <p:nvPr/>
        </p:nvPicPr>
        <p:blipFill>
          <a:blip r:embed="rId8"/>
          <a:stretch/>
        </p:blipFill>
        <p:spPr>
          <a:xfrm>
            <a:off x="3048120" y="609480"/>
            <a:ext cx="1611360" cy="1082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Users\gary\AppData\Local\Microsoft\Windows\Temporary Internet Files\Content.IE5\KPRRPU1U\MM900173982[1].gif"/>
          <p:cNvPicPr/>
          <p:nvPr/>
        </p:nvPicPr>
        <p:blipFill>
          <a:blip r:embed="rId9"/>
          <a:stretch/>
        </p:blipFill>
        <p:spPr>
          <a:xfrm>
            <a:off x="6781680" y="380880"/>
            <a:ext cx="1611360" cy="1082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Users\gary\AppData\Local\Microsoft\Windows\Temporary Internet Files\Content.IE5\KPRRPU1U\MM900173982[1].gif"/>
          <p:cNvPicPr/>
          <p:nvPr/>
        </p:nvPicPr>
        <p:blipFill>
          <a:blip r:embed="rId10"/>
          <a:stretch/>
        </p:blipFill>
        <p:spPr>
          <a:xfrm>
            <a:off x="4343400" y="380880"/>
            <a:ext cx="1611360" cy="1082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Users\gary\AppData\Local\Microsoft\Windows\Temporary Internet Files\Content.IE5\KPRRPU1U\MM900173982[1].gif"/>
          <p:cNvPicPr/>
          <p:nvPr/>
        </p:nvPicPr>
        <p:blipFill>
          <a:blip r:embed="rId11"/>
          <a:stretch/>
        </p:blipFill>
        <p:spPr>
          <a:xfrm>
            <a:off x="1447920" y="457200"/>
            <a:ext cx="1611360" cy="1082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2"/>
          <a:stretch/>
        </p:blipFill>
        <p:spPr>
          <a:xfrm>
            <a:off x="838188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324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rah Crawfo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-204840"/>
            <a:ext cx="9144000" cy="70628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84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Microsoft,  Girl pictures, 4/13/12,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Bauhaus 93"/>
                <a:hlinkClick r:id="rId2"/>
              </a:rPr>
              <a:t>http://office.microsoft.com/en-us/images/results.aspx?ex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Bauhaus 93"/>
                <a:hlinkClick r:id="rId3"/>
              </a:rPr>
              <a:t>=2&amp;qu=girl#mt: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Microsoft, Rain Pictures 4/13/12, http://office.microsoft.com/en-us/images/results.aspx?qu=rain&amp;ctt=1#mt: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Microsoft, Dog 4/13/12,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Bauhaus 93"/>
                <a:hlinkClick r:id="rId4"/>
              </a:rPr>
              <a:t>http://office.microsoft.com/en-us/images/results.aspx?qu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Bauhaus 93"/>
                <a:hlinkClick r:id="rId5"/>
              </a:rPr>
              <a:t>=dog%20bone&amp;ctt=1#mt:1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Microsoft, Flower 4/13/12,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Bauhaus 93"/>
                <a:hlinkClick r:id="rId6"/>
              </a:rPr>
              <a:t>http://office.microsoft.com/en-us/images/results.aspx?qu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Bauhaus 93"/>
                <a:hlinkClick r:id="rId7"/>
              </a:rPr>
              <a:t>=flowers&amp;ctt=1#mt:1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Microsoft, Flower 4/13/12,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Bauhaus 93"/>
                <a:hlinkClick r:id="rId8"/>
              </a:rPr>
              <a:t>http://office.microsoft.com/en-us/images/results.aspx?qu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Bauhaus 93"/>
                <a:hlinkClick r:id="rId9"/>
              </a:rPr>
              <a:t>=flower%20blooming&amp;ctt=1#mt:3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Microsoft, Bed 4/13/12, http://office.microsoft.com/en-us/images/results.aspx?qu=bed&amp;ctt=1#pg:4|mt:1|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Microsoft, Footprint 4/13/12, http://office.microsoft.com/en-us/images/results.aspx?qu=footprint&amp;ctt=1#mt:1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Music: Free Play Music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Bauhaus 93"/>
              </a:rPr>
              <a:t>Downfall,4/412  http://freeplaymusic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5486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  <a:ea typeface="Arial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3352680" y="4800600"/>
            <a:ext cx="1828800" cy="838080"/>
          </a:xfrm>
          <a:prstGeom prst="cloudCallout">
            <a:avLst>
              <a:gd name="adj1" fmla="val -143231"/>
              <a:gd name="adj2" fmla="val 5115"/>
            </a:avLst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hh! A Cat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7010280" y="304920"/>
            <a:ext cx="1828800" cy="838080"/>
          </a:xfrm>
          <a:prstGeom prst="cloudCallout">
            <a:avLst>
              <a:gd name="adj1" fmla="val -53560"/>
              <a:gd name="adj2" fmla="val 78597"/>
            </a:avLst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just want to play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extBox 3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4522680" cy="151128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5" descr=""/>
          <p:cNvPicPr/>
          <p:nvPr/>
        </p:nvPicPr>
        <p:blipFill>
          <a:blip r:embed="rId2"/>
          <a:stretch/>
        </p:blipFill>
        <p:spPr>
          <a:xfrm>
            <a:off x="1170000" y="4340160"/>
            <a:ext cx="7602480" cy="1652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gary\AppData\Local\Microsoft\Windows\Temporary Internet Files\Content.IE5\FINVI7XY\MM900173982[1].gif"/>
          <p:cNvPicPr/>
          <p:nvPr/>
        </p:nvPicPr>
        <p:blipFill>
          <a:blip r:embed="rId3"/>
          <a:stretch/>
        </p:blipFill>
        <p:spPr>
          <a:xfrm>
            <a:off x="6858000" y="609480"/>
            <a:ext cx="1541520" cy="905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Users\gary\AppData\Local\Microsoft\Windows\Temporary Internet Files\Content.IE5\KPRRPU1U\MM900173982[1].gif"/>
          <p:cNvPicPr/>
          <p:nvPr/>
        </p:nvPicPr>
        <p:blipFill>
          <a:blip r:embed="rId4"/>
          <a:stretch/>
        </p:blipFill>
        <p:spPr>
          <a:xfrm>
            <a:off x="2895480" y="457200"/>
            <a:ext cx="1611360" cy="1082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Users\gary\AppData\Local\Microsoft\Windows\Temporary Internet Files\Content.IE5\KPRRPU1U\MM900173982[1].gif"/>
          <p:cNvPicPr/>
          <p:nvPr/>
        </p:nvPicPr>
        <p:blipFill>
          <a:blip r:embed="rId5"/>
          <a:stretch/>
        </p:blipFill>
        <p:spPr>
          <a:xfrm>
            <a:off x="685800" y="304920"/>
            <a:ext cx="1611360" cy="1082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Users\gary\AppData\Local\Microsoft\Windows\Temporary Internet Files\Content.IE5\KPRRPU1U\MM900173982[1].gif"/>
          <p:cNvPicPr/>
          <p:nvPr/>
        </p:nvPicPr>
        <p:blipFill>
          <a:blip r:embed="rId6"/>
          <a:stretch/>
        </p:blipFill>
        <p:spPr>
          <a:xfrm>
            <a:off x="1523880" y="152280"/>
            <a:ext cx="1611360" cy="1082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Users\gary\AppData\Local\Microsoft\Windows\Temporary Internet Files\Content.IE5\KPRRPU1U\MM900173982[1].gif"/>
          <p:cNvPicPr/>
          <p:nvPr/>
        </p:nvPicPr>
        <p:blipFill>
          <a:blip r:embed="rId7"/>
          <a:stretch/>
        </p:blipFill>
        <p:spPr>
          <a:xfrm>
            <a:off x="5867280" y="304920"/>
            <a:ext cx="1611360" cy="1082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Users\gary\AppData\Local\Microsoft\Windows\Temporary Internet Files\Content.IE5\KPRRPU1U\MM900173982[1].gif"/>
          <p:cNvPicPr/>
          <p:nvPr/>
        </p:nvPicPr>
        <p:blipFill>
          <a:blip r:embed="rId8"/>
          <a:stretch/>
        </p:blipFill>
        <p:spPr>
          <a:xfrm>
            <a:off x="3886200" y="304920"/>
            <a:ext cx="1611360" cy="1082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Users\gary\AppData\Local\Microsoft\Windows\Temporary Internet Files\Content.IE5\KPRRPU1U\MM900173982[1].gif"/>
          <p:cNvPicPr/>
          <p:nvPr/>
        </p:nvPicPr>
        <p:blipFill>
          <a:blip r:embed="rId9"/>
          <a:stretch/>
        </p:blipFill>
        <p:spPr>
          <a:xfrm>
            <a:off x="3657600" y="304920"/>
            <a:ext cx="1611360" cy="1082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Users\gary\AppData\Local\Microsoft\Windows\Temporary Internet Files\Content.IE5\KPRRPU1U\MM900173982[1].gif"/>
          <p:cNvPicPr/>
          <p:nvPr/>
        </p:nvPicPr>
        <p:blipFill>
          <a:blip r:embed="rId10"/>
          <a:stretch/>
        </p:blipFill>
        <p:spPr>
          <a:xfrm>
            <a:off x="2743200" y="152280"/>
            <a:ext cx="1611360" cy="1082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Users\gary\AppData\Local\Microsoft\Windows\Temporary Internet Files\Content.IE5\KPRRPU1U\MM900173982[1].gif"/>
          <p:cNvPicPr/>
          <p:nvPr/>
        </p:nvPicPr>
        <p:blipFill>
          <a:blip r:embed="rId11"/>
          <a:stretch/>
        </p:blipFill>
        <p:spPr>
          <a:xfrm>
            <a:off x="4800600" y="533520"/>
            <a:ext cx="1611360" cy="1082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C:\Users\gary\AppData\Local\Microsoft\Windows\Temporary Internet Files\Content.IE5\KPRRPU1U\MM900173982[1].gif"/>
          <p:cNvPicPr/>
          <p:nvPr/>
        </p:nvPicPr>
        <p:blipFill>
          <a:blip r:embed="rId12"/>
          <a:stretch/>
        </p:blipFill>
        <p:spPr>
          <a:xfrm>
            <a:off x="5257800" y="457200"/>
            <a:ext cx="1611360" cy="1082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Users\gary\AppData\Local\Microsoft\Windows\Temporary Internet Files\Content.IE5\KPRRPU1U\MM900173982[1].gif"/>
          <p:cNvPicPr/>
          <p:nvPr/>
        </p:nvPicPr>
        <p:blipFill>
          <a:blip r:embed="rId13"/>
          <a:stretch/>
        </p:blipFill>
        <p:spPr>
          <a:xfrm flipH="1">
            <a:off x="6411960" y="762120"/>
            <a:ext cx="1587600" cy="1066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Users\gary\AppData\Local\Microsoft\Windows\Temporary Internet Files\Content.IE5\KPRRPU1U\MM900173982[1].gif"/>
          <p:cNvPicPr/>
          <p:nvPr/>
        </p:nvPicPr>
        <p:blipFill>
          <a:blip r:embed="rId14"/>
          <a:stretch/>
        </p:blipFill>
        <p:spPr>
          <a:xfrm>
            <a:off x="1981080" y="380880"/>
            <a:ext cx="1611360" cy="1082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Users\gary\AppData\Local\Microsoft\Windows\Temporary Internet Files\Content.IE5\KPRRPU1U\MM900173982[1].gif"/>
          <p:cNvPicPr/>
          <p:nvPr/>
        </p:nvPicPr>
        <p:blipFill>
          <a:blip r:embed="rId15"/>
          <a:stretch/>
        </p:blipFill>
        <p:spPr>
          <a:xfrm>
            <a:off x="5715000" y="609480"/>
            <a:ext cx="1611360" cy="1082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:\Users\gary\AppData\Local\Microsoft\Windows\Temporary Internet Files\Content.IE5\KPRRPU1U\MM900173982[1].gif"/>
          <p:cNvPicPr/>
          <p:nvPr/>
        </p:nvPicPr>
        <p:blipFill>
          <a:blip r:embed="rId16"/>
          <a:stretch/>
        </p:blipFill>
        <p:spPr>
          <a:xfrm>
            <a:off x="4876920" y="152280"/>
            <a:ext cx="1611360" cy="1082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Users\gary\AppData\Local\Microsoft\Windows\Temporary Internet Files\Content.IE5\FINVI7XY\MM900283677[1].gif"/>
          <p:cNvPicPr/>
          <p:nvPr/>
        </p:nvPicPr>
        <p:blipFill>
          <a:blip r:embed="rId17"/>
          <a:stretch/>
        </p:blipFill>
        <p:spPr>
          <a:xfrm>
            <a:off x="3809880" y="2743200"/>
            <a:ext cx="1943280" cy="1263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C:\Users\gary\AppData\Local\Microsoft\Windows\Temporary Internet Files\Content.IE5\FINVI7XY\MC900052881[1].wmf"/>
          <p:cNvPicPr/>
          <p:nvPr/>
        </p:nvPicPr>
        <p:blipFill>
          <a:blip r:embed="rId18"/>
          <a:stretch/>
        </p:blipFill>
        <p:spPr>
          <a:xfrm>
            <a:off x="4648320" y="5638680"/>
            <a:ext cx="73800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lowchart: Delay 31"/>
          <p:cNvSpPr/>
          <p:nvPr/>
        </p:nvSpPr>
        <p:spPr>
          <a:xfrm rot="16200000">
            <a:off x="7124760" y="1104480"/>
            <a:ext cx="533160" cy="1219320"/>
          </a:xfrm>
          <a:prstGeom prst="flowChartDelay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Users\gary\AppData\Local\Microsoft\Windows\Temporary Internet Files\Content.IE5\KPRRPU1U\MM900236492[1].gif"/>
          <p:cNvPicPr/>
          <p:nvPr/>
        </p:nvPicPr>
        <p:blipFill>
          <a:blip r:embed="rId1"/>
          <a:stretch/>
        </p:blipFill>
        <p:spPr>
          <a:xfrm>
            <a:off x="5334120" y="3809880"/>
            <a:ext cx="1218960" cy="1428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C:\Users\gary\AppData\Local\Microsoft\Windows\Temporary Internet Files\Content.IE5\6R1U224W\MM900283653[1].gif"/>
          <p:cNvPicPr/>
          <p:nvPr/>
        </p:nvPicPr>
        <p:blipFill>
          <a:blip r:embed="rId2"/>
          <a:stretch/>
        </p:blipFill>
        <p:spPr>
          <a:xfrm>
            <a:off x="6477120" y="4952880"/>
            <a:ext cx="1128600" cy="1011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:\Users\gary\AppData\Local\Microsoft\Windows\Temporary Internet Files\Content.IE5\JLQQ5FD0\MM900283634[1].gif"/>
          <p:cNvPicPr/>
          <p:nvPr/>
        </p:nvPicPr>
        <p:blipFill>
          <a:blip r:embed="rId3"/>
          <a:stretch/>
        </p:blipFill>
        <p:spPr>
          <a:xfrm>
            <a:off x="5257800" y="2286000"/>
            <a:ext cx="1528920" cy="1076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C:\Users\gary\AppData\Local\Microsoft\Windows\Temporary Internet Files\Content.IE5\KPRRPU1U\MM900236473[1].gif"/>
          <p:cNvPicPr/>
          <p:nvPr/>
        </p:nvPicPr>
        <p:blipFill>
          <a:blip r:embed="rId4"/>
          <a:stretch/>
        </p:blipFill>
        <p:spPr>
          <a:xfrm>
            <a:off x="6477120" y="3200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4" name="TextBox 8" descr=""/>
          <p:cNvPicPr/>
          <p:nvPr/>
        </p:nvPicPr>
        <p:blipFill>
          <a:blip r:embed="rId5"/>
          <a:stretch/>
        </p:blipFill>
        <p:spPr>
          <a:xfrm>
            <a:off x="450720" y="291960"/>
            <a:ext cx="6950160" cy="615960"/>
          </a:xfrm>
          <a:prstGeom prst="rect">
            <a:avLst/>
          </a:prstGeom>
          <a:ln w="0">
            <a:noFill/>
          </a:ln>
        </p:spPr>
      </p:pic>
      <p:pic>
        <p:nvPicPr>
          <p:cNvPr id="85" name="TextBox 9" descr=""/>
          <p:cNvPicPr/>
          <p:nvPr/>
        </p:nvPicPr>
        <p:blipFill>
          <a:blip r:embed="rId6"/>
          <a:stretch/>
        </p:blipFill>
        <p:spPr>
          <a:xfrm>
            <a:off x="1438200" y="1359000"/>
            <a:ext cx="4097520" cy="148104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10" descr=""/>
          <p:cNvPicPr/>
          <p:nvPr/>
        </p:nvPicPr>
        <p:blipFill>
          <a:blip r:embed="rId7"/>
          <a:stretch/>
        </p:blipFill>
        <p:spPr>
          <a:xfrm>
            <a:off x="1670040" y="3187800"/>
            <a:ext cx="3444840" cy="2774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C:\Users\gary\AppData\Local\Microsoft\Windows\Temporary Internet Files\Content.IE5\KPRRPU1U\MM900173982[2].gif"/>
          <p:cNvPicPr/>
          <p:nvPr/>
        </p:nvPicPr>
        <p:blipFill>
          <a:blip r:embed="rId8"/>
          <a:stretch/>
        </p:blipFill>
        <p:spPr>
          <a:xfrm>
            <a:off x="6705720" y="762120"/>
            <a:ext cx="712800" cy="52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C:\Users\gary\AppData\Local\Microsoft\Windows\Temporary Internet Files\Content.IE5\KPRRPU1U\MM900173982[2].gif"/>
          <p:cNvPicPr/>
          <p:nvPr/>
        </p:nvPicPr>
        <p:blipFill>
          <a:blip r:embed="rId9"/>
          <a:stretch/>
        </p:blipFill>
        <p:spPr>
          <a:xfrm>
            <a:off x="7238880" y="762120"/>
            <a:ext cx="712800" cy="528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C:\Users\gary\AppData\Local\Microsoft\Windows\Temporary Internet Files\Content.IE5\KPRRPU1U\MM900173982[2].gif"/>
          <p:cNvPicPr/>
          <p:nvPr/>
        </p:nvPicPr>
        <p:blipFill>
          <a:blip r:embed="rId10"/>
          <a:stretch/>
        </p:blipFill>
        <p:spPr>
          <a:xfrm>
            <a:off x="7391520" y="762120"/>
            <a:ext cx="712800" cy="528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C:\Users\gary\AppData\Local\Microsoft\Windows\Temporary Internet Files\Content.IE5\KPRRPU1U\MM900173982[2].gif"/>
          <p:cNvPicPr/>
          <p:nvPr/>
        </p:nvPicPr>
        <p:blipFill>
          <a:blip r:embed="rId11"/>
          <a:stretch/>
        </p:blipFill>
        <p:spPr>
          <a:xfrm>
            <a:off x="7010280" y="914400"/>
            <a:ext cx="712800" cy="5284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3"/>
          <p:cNvSpPr/>
          <p:nvPr/>
        </p:nvSpPr>
        <p:spPr>
          <a:xfrm>
            <a:off x="6705720" y="685800"/>
            <a:ext cx="75960" cy="1371600"/>
          </a:xfrm>
          <a:prstGeom prst="rect">
            <a:avLst/>
          </a:prstGeom>
          <a:solidFill>
            <a:srgbClr val="80808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4"/>
          <p:cNvSpPr/>
          <p:nvPr/>
        </p:nvSpPr>
        <p:spPr>
          <a:xfrm>
            <a:off x="6781680" y="1981080"/>
            <a:ext cx="1295640" cy="76320"/>
          </a:xfrm>
          <a:prstGeom prst="rect">
            <a:avLst/>
          </a:prstGeom>
          <a:solidFill>
            <a:srgbClr val="80808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5"/>
          <p:cNvSpPr/>
          <p:nvPr/>
        </p:nvSpPr>
        <p:spPr>
          <a:xfrm rot="16200000">
            <a:off x="7391520" y="1295280"/>
            <a:ext cx="1295280" cy="76320"/>
          </a:xfrm>
          <a:prstGeom prst="rect">
            <a:avLst/>
          </a:prstGeom>
          <a:solidFill>
            <a:srgbClr val="80808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26"/>
          <p:cNvSpPr/>
          <p:nvPr/>
        </p:nvSpPr>
        <p:spPr>
          <a:xfrm>
            <a:off x="6781680" y="685800"/>
            <a:ext cx="1295640" cy="76320"/>
          </a:xfrm>
          <a:prstGeom prst="rect">
            <a:avLst/>
          </a:prstGeom>
          <a:solidFill>
            <a:srgbClr val="80808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27"/>
          <p:cNvSpPr/>
          <p:nvPr/>
        </p:nvSpPr>
        <p:spPr>
          <a:xfrm rot="5400000">
            <a:off x="6781320" y="1371600"/>
            <a:ext cx="1295280" cy="75960"/>
          </a:xfrm>
          <a:prstGeom prst="rect">
            <a:avLst/>
          </a:prstGeom>
          <a:solidFill>
            <a:srgbClr val="80808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28"/>
          <p:cNvSpPr/>
          <p:nvPr/>
        </p:nvSpPr>
        <p:spPr>
          <a:xfrm>
            <a:off x="6781680" y="1295280"/>
            <a:ext cx="1295640" cy="76320"/>
          </a:xfrm>
          <a:prstGeom prst="rect">
            <a:avLst/>
          </a:prstGeom>
          <a:solidFill>
            <a:srgbClr val="80808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C:\Users\gary\AppData\Local\Microsoft\Windows\Temporary Internet Files\Content.IE5\FINVI7XY\MC900016713[1].wmf"/>
          <p:cNvPicPr/>
          <p:nvPr/>
        </p:nvPicPr>
        <p:blipFill>
          <a:blip r:embed="rId1"/>
          <a:stretch/>
        </p:blipFill>
        <p:spPr>
          <a:xfrm>
            <a:off x="4648320" y="1295280"/>
            <a:ext cx="2898720" cy="2895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C:\Users\gary\AppData\Local\Microsoft\Windows\Temporary Internet Files\Content.IE5\JLQQ5FD0\MM900283629[1].gif"/>
          <p:cNvPicPr/>
          <p:nvPr/>
        </p:nvPicPr>
        <p:blipFill>
          <a:blip r:embed="rId2"/>
          <a:stretch/>
        </p:blipFill>
        <p:spPr>
          <a:xfrm>
            <a:off x="5943600" y="1828800"/>
            <a:ext cx="961920" cy="1074600"/>
          </a:xfrm>
          <a:prstGeom prst="rect">
            <a:avLst/>
          </a:prstGeom>
          <a:ln w="0">
            <a:noFill/>
          </a:ln>
        </p:spPr>
      </p:pic>
      <p:pic>
        <p:nvPicPr>
          <p:cNvPr id="99" name="Rectangle 22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5992920" cy="728640"/>
          </a:xfrm>
          <a:prstGeom prst="rect">
            <a:avLst/>
          </a:prstGeom>
          <a:ln w="0">
            <a:noFill/>
          </a:ln>
        </p:spPr>
      </p:pic>
      <p:pic>
        <p:nvPicPr>
          <p:cNvPr id="100" name="Rectangle 23" descr=""/>
          <p:cNvPicPr/>
          <p:nvPr/>
        </p:nvPicPr>
        <p:blipFill>
          <a:blip r:embed="rId4"/>
          <a:stretch/>
        </p:blipFill>
        <p:spPr>
          <a:xfrm>
            <a:off x="533520" y="838080"/>
            <a:ext cx="4286160" cy="890640"/>
          </a:xfrm>
          <a:prstGeom prst="rect">
            <a:avLst/>
          </a:prstGeom>
          <a:ln w="0">
            <a:noFill/>
          </a:ln>
        </p:spPr>
      </p:pic>
      <p:pic>
        <p:nvPicPr>
          <p:cNvPr id="101" name="Rectangle 24" descr=""/>
          <p:cNvPicPr/>
          <p:nvPr/>
        </p:nvPicPr>
        <p:blipFill>
          <a:blip r:embed="rId5"/>
          <a:stretch/>
        </p:blipFill>
        <p:spPr>
          <a:xfrm>
            <a:off x="1523880" y="1981080"/>
            <a:ext cx="3140280" cy="668520"/>
          </a:xfrm>
          <a:prstGeom prst="rect">
            <a:avLst/>
          </a:prstGeom>
          <a:ln w="0">
            <a:noFill/>
          </a:ln>
        </p:spPr>
      </p:pic>
      <p:pic>
        <p:nvPicPr>
          <p:cNvPr id="102" name="TextBox 25" descr=""/>
          <p:cNvPicPr/>
          <p:nvPr/>
        </p:nvPicPr>
        <p:blipFill>
          <a:blip r:embed="rId6"/>
          <a:stretch/>
        </p:blipFill>
        <p:spPr>
          <a:xfrm>
            <a:off x="457200" y="4038480"/>
            <a:ext cx="4475160" cy="914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1" descr="C:\Users\gary\AppData\Local\Microsoft\Windows\Temporary Internet Files\Content.IE5\FINVI7XY\MM900040901[1].gif"/>
          <p:cNvPicPr/>
          <p:nvPr/>
        </p:nvPicPr>
        <p:blipFill>
          <a:blip r:embed="rId7"/>
          <a:stretch/>
        </p:blipFill>
        <p:spPr>
          <a:xfrm>
            <a:off x="2057400" y="5181480"/>
            <a:ext cx="1512720" cy="933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447920" y="1676520"/>
            <a:ext cx="3352680" cy="1371600"/>
          </a:xfrm>
          <a:prstGeom prst="cloudCallout">
            <a:avLst>
              <a:gd name="adj1" fmla="val 80254"/>
              <a:gd name="adj2" fmla="val -162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762120" y="5562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129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extBox 3" descr=""/>
          <p:cNvPicPr/>
          <p:nvPr/>
        </p:nvPicPr>
        <p:blipFill>
          <a:blip r:embed="rId1"/>
          <a:stretch/>
        </p:blipFill>
        <p:spPr>
          <a:xfrm>
            <a:off x="219240" y="139680"/>
            <a:ext cx="3743280" cy="3633840"/>
          </a:xfrm>
          <a:prstGeom prst="rect">
            <a:avLst/>
          </a:prstGeom>
          <a:ln w="0">
            <a:noFill/>
          </a:ln>
        </p:spPr>
      </p:pic>
      <p:pic>
        <p:nvPicPr>
          <p:cNvPr id="107" name="TextBox 4" descr=""/>
          <p:cNvPicPr/>
          <p:nvPr/>
        </p:nvPicPr>
        <p:blipFill>
          <a:blip r:embed="rId2"/>
          <a:stretch/>
        </p:blipFill>
        <p:spPr>
          <a:xfrm>
            <a:off x="5437080" y="1828800"/>
            <a:ext cx="3487680" cy="2389320"/>
          </a:xfrm>
          <a:prstGeom prst="rect">
            <a:avLst/>
          </a:prstGeom>
          <a:ln w="0">
            <a:noFill/>
          </a:ln>
        </p:spPr>
      </p:pic>
      <p:pic>
        <p:nvPicPr>
          <p:cNvPr id="108" name="Rectangle 8" descr=""/>
          <p:cNvPicPr/>
          <p:nvPr/>
        </p:nvPicPr>
        <p:blipFill>
          <a:blip r:embed="rId3"/>
          <a:stretch/>
        </p:blipFill>
        <p:spPr>
          <a:xfrm>
            <a:off x="2481120" y="4309920"/>
            <a:ext cx="3108600" cy="2170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Users\gary\AppData\Local\Microsoft\Windows\Temporary Internet Files\Content.IE5\FINVI7XY\MC900016713[1].wmf"/>
          <p:cNvPicPr/>
          <p:nvPr/>
        </p:nvPicPr>
        <p:blipFill>
          <a:blip r:embed="rId4"/>
          <a:stretch/>
        </p:blipFill>
        <p:spPr>
          <a:xfrm>
            <a:off x="3276720" y="380880"/>
            <a:ext cx="2590560" cy="2587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C:\Users\gary\AppData\Local\Microsoft\Windows\Temporary Internet Files\Content.IE5\JLQQ5FD0\MM900283629[1].gif"/>
          <p:cNvPicPr/>
          <p:nvPr/>
        </p:nvPicPr>
        <p:blipFill>
          <a:blip r:embed="rId5"/>
          <a:stretch/>
        </p:blipFill>
        <p:spPr>
          <a:xfrm>
            <a:off x="4419720" y="914400"/>
            <a:ext cx="914400" cy="1022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C:\Users\gary\AppData\Local\Microsoft\Windows\Temporary Internet Files\Content.IE5\6R1U224W\MM900040901[2].gif"/>
          <p:cNvPicPr/>
          <p:nvPr/>
        </p:nvPicPr>
        <p:blipFill>
          <a:blip r:embed="rId6"/>
          <a:stretch/>
        </p:blipFill>
        <p:spPr>
          <a:xfrm>
            <a:off x="3733920" y="1447920"/>
            <a:ext cx="1371600" cy="8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extBox 3" descr=""/>
          <p:cNvPicPr/>
          <p:nvPr/>
        </p:nvPicPr>
        <p:blipFill>
          <a:blip r:embed="rId1"/>
          <a:stretch/>
        </p:blipFill>
        <p:spPr>
          <a:xfrm>
            <a:off x="689040" y="249120"/>
            <a:ext cx="4956120" cy="708120"/>
          </a:xfrm>
          <a:prstGeom prst="rect">
            <a:avLst/>
          </a:prstGeom>
          <a:ln w="0">
            <a:noFill/>
          </a:ln>
        </p:spPr>
      </p:pic>
      <p:pic>
        <p:nvPicPr>
          <p:cNvPr id="113" name="TextBox 5" descr=""/>
          <p:cNvPicPr/>
          <p:nvPr/>
        </p:nvPicPr>
        <p:blipFill>
          <a:blip r:embed="rId2"/>
          <a:stretch/>
        </p:blipFill>
        <p:spPr>
          <a:xfrm>
            <a:off x="762120" y="858960"/>
            <a:ext cx="3286080" cy="4334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2"/>
          <p:cNvSpPr/>
          <p:nvPr/>
        </p:nvSpPr>
        <p:spPr>
          <a:xfrm>
            <a:off x="6248520" y="609480"/>
            <a:ext cx="2209680" cy="12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8" descr="C:\Users\gary\AppData\Local\Microsoft\Windows\Temporary Internet Files\Content.IE5\KPRRPU1U\MC900410597[1].wmf"/>
          <p:cNvPicPr/>
          <p:nvPr/>
        </p:nvPicPr>
        <p:blipFill>
          <a:blip r:embed="rId3"/>
          <a:stretch/>
        </p:blipFill>
        <p:spPr>
          <a:xfrm>
            <a:off x="6324480" y="685800"/>
            <a:ext cx="951120" cy="990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C:\Users\gary\AppData\Local\Microsoft\Windows\Temporary Internet Files\Content.IE5\FINVI7XY\MM900236487[1].gif"/>
          <p:cNvPicPr/>
          <p:nvPr/>
        </p:nvPicPr>
        <p:blipFill>
          <a:blip r:embed="rId4"/>
          <a:stretch/>
        </p:blipFill>
        <p:spPr>
          <a:xfrm>
            <a:off x="5029200" y="533520"/>
            <a:ext cx="1484280" cy="15858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3"/>
          <p:cNvSpPr/>
          <p:nvPr/>
        </p:nvSpPr>
        <p:spPr>
          <a:xfrm>
            <a:off x="7391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lackadder ITC"/>
              </a:rPr>
              <a:t>By All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9" descr="C:\Users\gary\AppData\Local\Microsoft\Windows\Temporary Internet Files\Content.IE5\KPRRPU1U\MC900410609[1].wmf"/>
          <p:cNvPicPr/>
          <p:nvPr/>
        </p:nvPicPr>
        <p:blipFill>
          <a:blip r:embed="rId5"/>
          <a:stretch/>
        </p:blipFill>
        <p:spPr>
          <a:xfrm>
            <a:off x="7543800" y="685800"/>
            <a:ext cx="587520" cy="633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C:\Users\gary\AppData\Local\Microsoft\Windows\Temporary Internet Files\Content.IE5\KPRRPU1U\MM900283915[1].gif"/>
          <p:cNvPicPr/>
          <p:nvPr/>
        </p:nvPicPr>
        <p:blipFill>
          <a:blip r:embed="rId6"/>
          <a:stretch/>
        </p:blipFill>
        <p:spPr>
          <a:xfrm>
            <a:off x="457200" y="2971800"/>
            <a:ext cx="1009800" cy="1219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C:\Users\gary\AppData\Local\Microsoft\Windows\Temporary Internet Files\Content.IE5\FINVI7XY\MM900283920[1].gif"/>
          <p:cNvPicPr/>
          <p:nvPr/>
        </p:nvPicPr>
        <p:blipFill>
          <a:blip r:embed="rId7"/>
          <a:stretch/>
        </p:blipFill>
        <p:spPr>
          <a:xfrm rot="306000">
            <a:off x="1981080" y="2742840"/>
            <a:ext cx="1119240" cy="1566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1" descr="C:\Users\gary\AppData\Local\Microsoft\Windows\Temporary Internet Files\Content.IE5\6R1U224W\MM900236493[1].gif"/>
          <p:cNvPicPr/>
          <p:nvPr/>
        </p:nvPicPr>
        <p:blipFill>
          <a:blip r:embed="rId8"/>
          <a:stretch/>
        </p:blipFill>
        <p:spPr>
          <a:xfrm>
            <a:off x="7391520" y="25909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22" name="TextBox 28" descr=""/>
          <p:cNvPicPr/>
          <p:nvPr/>
        </p:nvPicPr>
        <p:blipFill>
          <a:blip r:embed="rId9"/>
          <a:stretch/>
        </p:blipFill>
        <p:spPr>
          <a:xfrm>
            <a:off x="457200" y="1852560"/>
            <a:ext cx="4730760" cy="982800"/>
          </a:xfrm>
          <a:prstGeom prst="rect">
            <a:avLst/>
          </a:prstGeom>
          <a:ln w="0">
            <a:noFill/>
          </a:ln>
        </p:spPr>
      </p:pic>
      <p:pic>
        <p:nvPicPr>
          <p:cNvPr id="123" name="TextBox 29" descr=""/>
          <p:cNvPicPr/>
          <p:nvPr/>
        </p:nvPicPr>
        <p:blipFill>
          <a:blip r:embed="rId10"/>
          <a:stretch/>
        </p:blipFill>
        <p:spPr>
          <a:xfrm>
            <a:off x="4876920" y="2286000"/>
            <a:ext cx="3663720" cy="982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3" descr="C:\Users\gary\AppData\Local\Microsoft\Windows\Temporary Internet Files\Content.IE5\FINVI7XY\MM900356794[1].gif"/>
          <p:cNvPicPr/>
          <p:nvPr/>
        </p:nvPicPr>
        <p:blipFill>
          <a:blip r:embed="rId11"/>
          <a:stretch/>
        </p:blipFill>
        <p:spPr>
          <a:xfrm>
            <a:off x="4572000" y="5181480"/>
            <a:ext cx="1409760" cy="1409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4" descr="C:\Users\gary\AppData\Local\Microsoft\Windows\Temporary Internet Files\Content.IE5\6R1U224W\MM900365304[1].gif"/>
          <p:cNvPicPr/>
          <p:nvPr/>
        </p:nvPicPr>
        <p:blipFill>
          <a:blip r:embed="rId12"/>
          <a:stretch/>
        </p:blipFill>
        <p:spPr>
          <a:xfrm>
            <a:off x="3962520" y="464832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5" descr="C:\Users\gary\AppData\Local\Microsoft\Windows\Temporary Internet Files\Content.IE5\JLQQ5FD0\MM900356787[2].gif"/>
          <p:cNvPicPr/>
          <p:nvPr/>
        </p:nvPicPr>
        <p:blipFill>
          <a:blip r:embed="rId13"/>
          <a:stretch/>
        </p:blipFill>
        <p:spPr>
          <a:xfrm>
            <a:off x="3048120" y="533412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33" descr=""/>
          <p:cNvPicPr/>
          <p:nvPr/>
        </p:nvPicPr>
        <p:blipFill>
          <a:blip r:embed="rId14"/>
          <a:stretch/>
        </p:blipFill>
        <p:spPr>
          <a:xfrm>
            <a:off x="762120" y="4668840"/>
            <a:ext cx="3968640" cy="982800"/>
          </a:xfrm>
          <a:prstGeom prst="rect">
            <a:avLst/>
          </a:prstGeom>
          <a:ln w="0">
            <a:noFill/>
          </a:ln>
        </p:spPr>
      </p:pic>
      <p:pic>
        <p:nvPicPr>
          <p:cNvPr id="128" name="Rectangle 34" descr=""/>
          <p:cNvPicPr/>
          <p:nvPr/>
        </p:nvPicPr>
        <p:blipFill>
          <a:blip r:embed="rId15"/>
          <a:stretch/>
        </p:blipFill>
        <p:spPr>
          <a:xfrm>
            <a:off x="5967360" y="5450040"/>
            <a:ext cx="335268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b0f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lowchart: Delay 11"/>
          <p:cNvSpPr/>
          <p:nvPr/>
        </p:nvSpPr>
        <p:spPr>
          <a:xfrm rot="16200000">
            <a:off x="2971800" y="2819160"/>
            <a:ext cx="1523880" cy="4267080"/>
          </a:xfrm>
          <a:prstGeom prst="flowChartDelay">
            <a:avLst/>
          </a:prstGeom>
          <a:solidFill>
            <a:srgbClr val="92d050"/>
          </a:solidFill>
          <a:ln w="25560">
            <a:solidFill>
              <a:srgbClr val="c3d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523880" y="304920"/>
            <a:ext cx="152640" cy="5562360"/>
          </a:xfrm>
          <a:prstGeom prst="rect">
            <a:avLst/>
          </a:prstGeom>
          <a:solidFill>
            <a:srgbClr val="80808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5791320" y="304920"/>
            <a:ext cx="152280" cy="5562360"/>
          </a:xfrm>
          <a:prstGeom prst="rect">
            <a:avLst/>
          </a:prstGeom>
          <a:solidFill>
            <a:srgbClr val="80808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1676520" y="304920"/>
            <a:ext cx="4114800" cy="152280"/>
          </a:xfrm>
          <a:prstGeom prst="rect">
            <a:avLst/>
          </a:prstGeom>
          <a:solidFill>
            <a:srgbClr val="80808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1676520" y="5715000"/>
            <a:ext cx="4114800" cy="152280"/>
          </a:xfrm>
          <a:prstGeom prst="rect">
            <a:avLst/>
          </a:prstGeom>
          <a:solidFill>
            <a:srgbClr val="80808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1600200" y="2971800"/>
            <a:ext cx="4191120" cy="152280"/>
          </a:xfrm>
          <a:prstGeom prst="rect">
            <a:avLst/>
          </a:prstGeom>
          <a:solidFill>
            <a:srgbClr val="80808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3581280" y="380880"/>
            <a:ext cx="152640" cy="5486400"/>
          </a:xfrm>
          <a:prstGeom prst="rect">
            <a:avLst/>
          </a:prstGeom>
          <a:solidFill>
            <a:srgbClr val="969696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C:\Users\gary\AppData\Local\Microsoft\Windows\Temporary Internet Files\Content.IE5\FINVI7XY\MM900046652[1].gif"/>
          <p:cNvPicPr/>
          <p:nvPr/>
        </p:nvPicPr>
        <p:blipFill>
          <a:blip r:embed="rId1"/>
          <a:stretch/>
        </p:blipFill>
        <p:spPr>
          <a:xfrm>
            <a:off x="1905120" y="609480"/>
            <a:ext cx="1438200" cy="1449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C:\Users\gary\AppData\Local\Microsoft\Windows\Temporary Internet Files\Content.IE5\6R1U224W\MM900354563[1].gif"/>
          <p:cNvPicPr/>
          <p:nvPr/>
        </p:nvPicPr>
        <p:blipFill>
          <a:blip r:embed="rId2"/>
          <a:stretch/>
        </p:blipFill>
        <p:spPr>
          <a:xfrm>
            <a:off x="4876920" y="4419720"/>
            <a:ext cx="565200" cy="628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Users\gary\AppData\Local\Microsoft\Windows\Temporary Internet Files\Content.IE5\6R1U224W\MM900354563[1].gif"/>
          <p:cNvPicPr/>
          <p:nvPr/>
        </p:nvPicPr>
        <p:blipFill>
          <a:blip r:embed="rId3"/>
          <a:stretch/>
        </p:blipFill>
        <p:spPr>
          <a:xfrm>
            <a:off x="4495680" y="4419720"/>
            <a:ext cx="635040" cy="70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C:\Users\gary\AppData\Local\Microsoft\Windows\Temporary Internet Files\Content.IE5\6R1U224W\MM900354563[1].gif"/>
          <p:cNvPicPr/>
          <p:nvPr/>
        </p:nvPicPr>
        <p:blipFill>
          <a:blip r:embed="rId4"/>
          <a:stretch/>
        </p:blipFill>
        <p:spPr>
          <a:xfrm>
            <a:off x="2819520" y="3962520"/>
            <a:ext cx="382320" cy="425160"/>
          </a:xfrm>
          <a:prstGeom prst="rect">
            <a:avLst/>
          </a:prstGeom>
          <a:ln w="0">
            <a:noFill/>
          </a:ln>
        </p:spPr>
      </p:pic>
      <p:pic>
        <p:nvPicPr>
          <p:cNvPr id="140" name="Rectangle 18" descr=""/>
          <p:cNvPicPr/>
          <p:nvPr/>
        </p:nvPicPr>
        <p:blipFill>
          <a:blip r:embed="rId5"/>
          <a:stretch/>
        </p:blipFill>
        <p:spPr>
          <a:xfrm>
            <a:off x="5937120" y="1752480"/>
            <a:ext cx="320688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b0f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lowchart: Delay 10"/>
          <p:cNvSpPr/>
          <p:nvPr/>
        </p:nvSpPr>
        <p:spPr>
          <a:xfrm rot="16200000">
            <a:off x="6667560" y="1713960"/>
            <a:ext cx="1066680" cy="2667240"/>
          </a:xfrm>
          <a:prstGeom prst="flowChartDelay">
            <a:avLst/>
          </a:prstGeom>
          <a:solidFill>
            <a:srgbClr val="92d050"/>
          </a:solidFill>
          <a:ln w="25560">
            <a:solidFill>
              <a:srgbClr val="c3d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066680" y="8380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haroni"/>
                <a:ea typeface="Aharoni"/>
              </a:rPr>
              <a:t>Alli looked out. She saw the bright sun. She saw the happy flowers blooming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haroni"/>
                <a:ea typeface="Aharoni"/>
              </a:rPr>
              <a:t>She turned to her toy box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5867280" y="762120"/>
            <a:ext cx="2667240" cy="152280"/>
          </a:xfrm>
          <a:prstGeom prst="rect">
            <a:avLst/>
          </a:prstGeom>
          <a:solidFill>
            <a:srgbClr val="80808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5"/>
          <p:cNvSpPr/>
          <p:nvPr/>
        </p:nvSpPr>
        <p:spPr>
          <a:xfrm rot="16200000">
            <a:off x="4610160" y="2171520"/>
            <a:ext cx="2666880" cy="152640"/>
          </a:xfrm>
          <a:prstGeom prst="rect">
            <a:avLst/>
          </a:prstGeom>
          <a:solidFill>
            <a:srgbClr val="80808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5867280" y="3429000"/>
            <a:ext cx="2667240" cy="152280"/>
          </a:xfrm>
          <a:prstGeom prst="rect">
            <a:avLst/>
          </a:prstGeom>
          <a:solidFill>
            <a:srgbClr val="80808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7"/>
          <p:cNvSpPr/>
          <p:nvPr/>
        </p:nvSpPr>
        <p:spPr>
          <a:xfrm rot="5400000">
            <a:off x="7124400" y="2095200"/>
            <a:ext cx="2667240" cy="152640"/>
          </a:xfrm>
          <a:prstGeom prst="rect">
            <a:avLst/>
          </a:prstGeom>
          <a:solidFill>
            <a:srgbClr val="80808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5867280" y="2133720"/>
            <a:ext cx="2667240" cy="152280"/>
          </a:xfrm>
          <a:prstGeom prst="rect">
            <a:avLst/>
          </a:prstGeom>
          <a:solidFill>
            <a:srgbClr val="80808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9"/>
          <p:cNvSpPr/>
          <p:nvPr/>
        </p:nvSpPr>
        <p:spPr>
          <a:xfrm rot="5400000">
            <a:off x="5828760" y="2095560"/>
            <a:ext cx="2667240" cy="152280"/>
          </a:xfrm>
          <a:prstGeom prst="rect">
            <a:avLst/>
          </a:prstGeom>
          <a:solidFill>
            <a:srgbClr val="80808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C:\Users\gary\AppData\Local\Microsoft\Windows\Temporary Internet Files\Content.IE5\FINVI7XY\MM900046652[1].gif"/>
          <p:cNvPicPr/>
          <p:nvPr/>
        </p:nvPicPr>
        <p:blipFill>
          <a:blip r:embed="rId1"/>
          <a:stretch/>
        </p:blipFill>
        <p:spPr>
          <a:xfrm>
            <a:off x="6095880" y="1066680"/>
            <a:ext cx="905040" cy="911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Users\gary\AppData\Local\Microsoft\Windows\Temporary Internet Files\Content.IE5\6R1U224W\MM900354563[1].gif"/>
          <p:cNvPicPr/>
          <p:nvPr/>
        </p:nvPicPr>
        <p:blipFill>
          <a:blip r:embed="rId2"/>
          <a:stretch/>
        </p:blipFill>
        <p:spPr>
          <a:xfrm>
            <a:off x="6324480" y="2438280"/>
            <a:ext cx="360360" cy="400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C:\Users\gary\AppData\Local\Microsoft\Windows\Temporary Internet Files\Content.IE5\6R1U224W\MM900354563[1].gif"/>
          <p:cNvPicPr/>
          <p:nvPr/>
        </p:nvPicPr>
        <p:blipFill>
          <a:blip r:embed="rId3"/>
          <a:stretch/>
        </p:blipFill>
        <p:spPr>
          <a:xfrm>
            <a:off x="7620120" y="2590920"/>
            <a:ext cx="496800" cy="552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Users\gary\AppData\Local\Microsoft\Windows\Temporary Internet Files\Content.IE5\6R1U224W\MM900354563[1].gif"/>
          <p:cNvPicPr/>
          <p:nvPr/>
        </p:nvPicPr>
        <p:blipFill>
          <a:blip r:embed="rId4"/>
          <a:stretch/>
        </p:blipFill>
        <p:spPr>
          <a:xfrm>
            <a:off x="7391520" y="2590920"/>
            <a:ext cx="565200" cy="628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C:\Users\gary\AppData\Local\Microsoft\Windows\Temporary Internet Files\Content.IE5\6R1U224W\MM900283677[1].gif"/>
          <p:cNvPicPr/>
          <p:nvPr/>
        </p:nvPicPr>
        <p:blipFill>
          <a:blip r:embed="rId5"/>
          <a:stretch/>
        </p:blipFill>
        <p:spPr>
          <a:xfrm>
            <a:off x="533520" y="3276720"/>
            <a:ext cx="1893600" cy="123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C:\Users\gary\AppData\Local\Microsoft\Windows\Temporary Internet Files\Content.IE5\JLQQ5FD0\MM900236492[1].gif"/>
          <p:cNvPicPr/>
          <p:nvPr/>
        </p:nvPicPr>
        <p:blipFill>
          <a:blip r:embed="rId6"/>
          <a:stretch/>
        </p:blipFill>
        <p:spPr>
          <a:xfrm>
            <a:off x="1523880" y="4876920"/>
            <a:ext cx="1524240" cy="1785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C:\Users\gary\AppData\Local\Microsoft\Windows\Temporary Internet Files\Content.IE5\FINVI7XY\MM900283634[1].gif"/>
          <p:cNvPicPr/>
          <p:nvPr/>
        </p:nvPicPr>
        <p:blipFill>
          <a:blip r:embed="rId7"/>
          <a:stretch/>
        </p:blipFill>
        <p:spPr>
          <a:xfrm>
            <a:off x="4419720" y="4724280"/>
            <a:ext cx="1676160" cy="1181160"/>
          </a:xfrm>
          <a:prstGeom prst="rect">
            <a:avLst/>
          </a:prstGeom>
          <a:ln w="0">
            <a:noFill/>
          </a:ln>
        </p:spPr>
      </p:pic>
      <p:sp>
        <p:nvSpPr>
          <p:cNvPr id="156" name="TextBox 20"/>
          <p:cNvSpPr/>
          <p:nvPr/>
        </p:nvSpPr>
        <p:spPr>
          <a:xfrm>
            <a:off x="2133720" y="2590920"/>
            <a:ext cx="281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haroni"/>
                <a:ea typeface="Aharoni"/>
              </a:rPr>
              <a:t>“</a:t>
            </a:r>
            <a:r>
              <a:rPr b="0" lang="en-US" sz="2400" spc="-1" strike="noStrike">
                <a:solidFill>
                  <a:srgbClr val="00b0f0"/>
                </a:solidFill>
                <a:latin typeface="Aharoni"/>
                <a:ea typeface="Aharoni"/>
              </a:rPr>
              <a:t>Sure it’s fun to swing, jump rope, and blow bubbles, but you can’t always do that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b0f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3"/>
          <p:cNvSpPr/>
          <p:nvPr/>
        </p:nvSpPr>
        <p:spPr>
          <a:xfrm>
            <a:off x="1523880" y="3808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Aharoni"/>
                <a:ea typeface="Aharoni"/>
              </a:rPr>
              <a:t>“</a:t>
            </a:r>
            <a:r>
              <a:rPr b="0" lang="en-US" sz="3600" spc="-1" strike="noStrike">
                <a:solidFill>
                  <a:srgbClr val="00b0f0"/>
                </a:solidFill>
                <a:latin typeface="Aharoni"/>
                <a:ea typeface="Aharoni"/>
              </a:rPr>
              <a:t>Even when it’s a rainy day, you have to make the most of it.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1676520" y="289548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haroni"/>
                <a:ea typeface="Aharoni"/>
              </a:rPr>
              <a:t>She dug through her toy-bo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haroni"/>
                <a:ea typeface="Aharoni"/>
              </a:rPr>
              <a:t>And dug out another to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380880" y="4419720"/>
            <a:ext cx="79250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b0f0"/>
                </a:solidFill>
                <a:latin typeface="Aharoni"/>
                <a:ea typeface="Aharoni"/>
              </a:rPr>
              <a:t>The </a:t>
            </a:r>
            <a:r>
              <a:rPr b="0" lang="en-US" sz="13800" spc="-1" strike="noStrike">
                <a:solidFill>
                  <a:srgbClr val="ffffff"/>
                </a:solidFill>
                <a:latin typeface="Aharoni"/>
                <a:ea typeface="Aharoni"/>
              </a:rPr>
              <a:t>End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21:30:57Z</dcterms:created>
  <dc:creator>gary</dc:creator>
  <dc:description/>
  <dc:language>en-US</dc:language>
  <cp:lastModifiedBy>install</cp:lastModifiedBy>
  <dcterms:modified xsi:type="dcterms:W3CDTF">2012-04-13T16:10:07Z</dcterms:modified>
  <cp:revision>42</cp:revision>
  <dc:subject/>
  <dc:title>Slide 1</dc:title>
</cp:coreProperties>
</file>